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0E884-665B-4FE9-9CC3-E00390F5A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F1A68-5D89-4400-AFA5-C064ABCA3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6BB49-E857-490A-8B3A-638F0D621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5927F-A28F-4E79-9CDF-CE1640832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EDE8D7-518F-4344-A4AD-511ADBD18E1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62FAB-D57C-4519-9C2D-BA5A5290C7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97804-9C0A-420A-88A6-D1083E30D6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02314F-42A5-4B17-849E-3B5F5CE950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7F1766-EB84-46FC-9558-E2B3ECC652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D16EF-302F-4D74-93C6-EDD701C911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C011E-860D-4BAC-888D-A6300C2110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CD53-FD58-4FC9-B085-CC54056A7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E0282-4511-4742-B88A-57C2F733A0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4729B-DA5A-491F-AA9F-DBED1291BA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0CED00-E227-4501-8EE3-32624985A2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AC203B-619E-4DDD-992C-590C610CF5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9DC2B1-EA63-4C05-9722-3EFB17B770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F4F96-F9A7-436B-AB3F-E3FF84DCB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A611-8929-4D24-966A-C43503D9D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0C72-6A22-422E-8AB7-98419A148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57A78-62B9-4C5A-AD05-E200BC8B0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62D0-05A5-49FA-AD9D-7F38B2F6A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E46D-BBA1-40DF-B497-0268D357D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E7146-95FA-40E8-8F2D-5A52BA70A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0129-BCF2-4A7E-B314-A29C24FB01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0FBA-72DA-4351-AB2B-64D1C120FB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765000"/>
            <a:ext cx="8686800" cy="583272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
            </a:r>
            <a:r>
              <a:rPr b="0" lang="ro-RO" sz="2200" spc="-1" strike="noStrike">
                <a:solidFill>
                  <a:srgbClr val="ffffff"/>
                </a:solidFill>
                <a:latin typeface="Times New Roman"/>
              </a:rPr>
              <a:t>ă</a:t>
            </a:r>
            <a:r>
              <a:rPr b="0" lang="en-US" sz="2200" spc="-1" strike="noStrike">
                <a:solidFill>
                  <a:srgbClr val="ffffff"/>
                </a:solidFill>
                <a:latin typeface="Times New Roman"/>
              </a:rPr>
              <a:t> numesc</a:t>
            </a:r>
            <a:r>
              <a:rPr b="0" lang="ro-RO" sz="2200" spc="-1" strike="noStrike">
                <a:solidFill>
                  <a:srgbClr val="ffffff"/>
                </a:solidFill>
                <a:latin typeface="Times New Roman"/>
              </a:rPr>
              <a:t> Soos Cristina Maria şi sunt elevă în clasa aXI-a,profil filologie, la Liceul teoretic ,,Ion Agarbiceanu” din Jibou. Am ales acest profil pentru că sunt pasionată de tot ce înseamnă studiul şi aprofundarea limbilor străine.</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 </a:t>
            </a:r>
            <a:r>
              <a:rPr b="0" lang="ro-RO" sz="2200" spc="-1" strike="noStrike">
                <a:solidFill>
                  <a:srgbClr val="ffffff"/>
                </a:solidFill>
                <a:latin typeface="Times New Roman"/>
              </a:rPr>
              <a:t>Sunt o persoană deschisă, căreia îi plac provocările. Consider că sunt un bun lider, de aceea, anul trecut am participat la alegerile din cadrul consiliului elevilor,unde am ajuns să fiu vicepreşedintă la nivel judetean. Sunt o fată ambiţioasă, care luptă mereu pentru a-şi atinge ţelurile.</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Timpul liber mi-l ocupă lectura, preferatele mele fiind romanele de dragoste. Deseori, pentru a mă detaşa de lumea  zgomotoasă  fac  plimbări în natur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Sunt conştinetă că liceul este o treaptă importantă în formarea viitorului unei persoane, de aceea mă străduiesc să fiu o elevă cât mai bună cu putinţ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Ar mai fi multe lucruri de spus, însă, în mare parte, acestea sunt lucrurile care mă caracterizează.</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5:31:20Z</dcterms:created>
  <dc:creator> </dc:creator>
  <dc:description/>
  <dc:language>en-US</dc:language>
  <cp:lastModifiedBy> </cp:lastModifiedBy>
  <dcterms:modified xsi:type="dcterms:W3CDTF">2011-09-22T15:55:42Z</dcterms:modified>
  <cp:revision>2</cp:revision>
  <dc:subject/>
  <dc:title>Diapozitivul 1</dc:title>
</cp:coreProperties>
</file>